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B551-C5B5-4D2B-AEDA-98C500159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06C50-88F5-4A34-A1F4-8F14B666CB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21C3-8E15-4206-A1BF-E96F9A2580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69C1-0641-4522-9EE9-AC62FBDC13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4178-96F3-433C-90F5-A78CFB2427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484B0-BCC9-4193-92CD-A66E44BEE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1FA5D-3F25-4C3B-BF50-0FBF2ED0E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C4DB-90F2-46C2-A8F2-7ABB1A66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5AFF-442A-4987-A13D-8C9E90277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67703-8AA0-4A70-8B17-07DBA55EA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99B3-0D04-4250-9681-7E4F9B58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7211-A0F0-4F12-851D-B60F174C7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C5A7-C347-4DF9-B1A5-A4067A29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E5C79-33AF-46A0-8E4A-A007383A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86F66-1D85-4D64-8CE5-29AA7B5B5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31D7-2585-4D7D-8FA3-A463D8789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843C-75BD-492F-8AC4-018E18E4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5989-F212-4618-925C-76DF4AD2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7A53-E21D-435A-8844-829C5FB4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0FDC-0788-4E75-86B8-F69E63CF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ED4C-FD1F-4A57-9F07-E4E301CE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7FB-1408-4BC7-93B1-AEFA74CB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A2A1B-3CEC-4328-B79A-004E5C487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60FBD-BA3D-4928-8FFC-42A82458E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22EA9-E693-4612-BCB4-34A18D51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857CD-5EDA-45CB-A0D5-47AF7D27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CDAD2-A413-46F1-9AF2-855904E1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5248-7056-4B78-91BA-5F23D361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67D4A-74D8-440A-8174-D6E525B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5386-D803-47FE-B70D-B7310E300B7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120A8-81C0-4409-BD3B-CAFDC49570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Muscular System </a:t>
            </a:r>
            <a:br>
              <a:rPr sz="6000"/>
            </a:br>
            <a:r>
              <a:rPr b="1" lang="en-US" sz="2000" spc="-1" strike="noStrike">
                <a:solidFill>
                  <a:srgbClr val="e5e5ff"/>
                </a:solidFill>
                <a:latin typeface="Garamond"/>
              </a:rPr>
              <a:t>600 Muscles</a:t>
            </a:r>
            <a:endParaRPr b="1" lang="en-US" sz="2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8" name="Picture 5" descr="ZOO%20234%20Muscular%20System%20Anterior%20View"/>
          <p:cNvPicPr/>
          <p:nvPr/>
        </p:nvPicPr>
        <p:blipFill>
          <a:blip r:embed="rId1"/>
          <a:stretch/>
        </p:blipFill>
        <p:spPr>
          <a:xfrm>
            <a:off x="3200400" y="1676520"/>
            <a:ext cx="27432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dy Movem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Flexing of the hamstring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" descr="knee muscle anatomy diagram - hamstrings (Image credit: Seif Medical Graphics)"/>
          <p:cNvPicPr/>
          <p:nvPr/>
        </p:nvPicPr>
        <p:blipFill>
          <a:blip r:embed="rId1"/>
          <a:stretch/>
        </p:blipFill>
        <p:spPr>
          <a:xfrm>
            <a:off x="4876920" y="1676520"/>
            <a:ext cx="35812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ody Movements cont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on of the quadricep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6" name="" descr="Knee muscle anatomy diagram - quadriceps (Image credit: Seif Medical Graphics)"/>
          <p:cNvPicPr/>
          <p:nvPr/>
        </p:nvPicPr>
        <p:blipFill>
          <a:blip r:embed="rId1"/>
          <a:stretch/>
        </p:blipFill>
        <p:spPr>
          <a:xfrm>
            <a:off x="3886200" y="1712880"/>
            <a:ext cx="487692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Pai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r muscles work in teams to move your body.  An example of this is your Bicep and Tricep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95680" y="1371600"/>
            <a:ext cx="427212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79096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2" name=""/>
          <p:cNvSpPr/>
          <p:nvPr/>
        </p:nvSpPr>
        <p:spPr>
          <a:xfrm flipH="1" flipV="1">
            <a:off x="3200400" y="837720"/>
            <a:ext cx="1447920" cy="38124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2971800" y="1600200"/>
            <a:ext cx="838080" cy="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943600" y="1981080"/>
            <a:ext cx="762120" cy="15264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5029200" y="2514600"/>
            <a:ext cx="1600200" cy="7632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895480" y="3352680"/>
            <a:ext cx="1447920" cy="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038480"/>
            <a:ext cx="990720" cy="22860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5029200"/>
            <a:ext cx="1067040" cy="304920"/>
          </a:xfrm>
          <a:prstGeom prst="line">
            <a:avLst/>
          </a:prstGeom>
          <a:ln w="381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457200"/>
            <a:ext cx="1022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609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Trapezi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14479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Deltoi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8288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Tricep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"/>
          <p:cNvSpPr/>
          <p:nvPr/>
        </p:nvSpPr>
        <p:spPr>
          <a:xfrm>
            <a:off x="6553080" y="22096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Latissimus Dors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312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Gluteus Maxim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"/>
          <p:cNvSpPr/>
          <p:nvPr/>
        </p:nvSpPr>
        <p:spPr>
          <a:xfrm>
            <a:off x="6613560" y="39736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41911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Hamstring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1814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Gastrocnemi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3 types of musc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ooth Muscles- Which include the muscles of internal organs and blood vessels.  These muscles move involunt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diac Muscle- Found only in the heart and also involuntary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Muscles- Are voluntary  and help you mov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Movemen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untary- Automatically move without you knowi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untary- Brain sends message to muscle.  You control the moveme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486400" cy="6096240"/>
          </a:xfrm>
          <a:prstGeom prst="rect">
            <a:avLst/>
          </a:prstGeom>
          <a:ln w="9360">
            <a:solidFill>
              <a:srgbClr val="000514"/>
            </a:solidFill>
            <a:miter/>
          </a:ln>
        </p:spPr>
      </p:pic>
      <p:sp>
        <p:nvSpPr>
          <p:cNvPr id="114" name="Line 3"/>
          <p:cNvSpPr/>
          <p:nvPr/>
        </p:nvSpPr>
        <p:spPr>
          <a:xfrm>
            <a:off x="6095880" y="320040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5"/>
          <p:cNvSpPr/>
          <p:nvPr/>
        </p:nvSpPr>
        <p:spPr>
          <a:xfrm flipH="1" flipV="1">
            <a:off x="3200040" y="533520"/>
            <a:ext cx="106668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Straight Connector 7"/>
          <p:cNvSpPr/>
          <p:nvPr/>
        </p:nvSpPr>
        <p:spPr>
          <a:xfrm flipH="1" flipV="1">
            <a:off x="3200040" y="761760"/>
            <a:ext cx="1066680" cy="1522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Straight Connector 10"/>
          <p:cNvSpPr/>
          <p:nvPr/>
        </p:nvSpPr>
        <p:spPr>
          <a:xfrm flipH="1" flipV="1">
            <a:off x="3352680" y="1218960"/>
            <a:ext cx="990720" cy="15228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Straight Connector 12"/>
          <p:cNvSpPr/>
          <p:nvPr/>
        </p:nvSpPr>
        <p:spPr>
          <a:xfrm flipH="1" flipV="1">
            <a:off x="2895480" y="1599840"/>
            <a:ext cx="914400" cy="2286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Straight Connector 15"/>
          <p:cNvSpPr/>
          <p:nvPr/>
        </p:nvSpPr>
        <p:spPr>
          <a:xfrm flipH="1">
            <a:off x="2743200" y="2286000"/>
            <a:ext cx="4572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Straight Connector 17"/>
          <p:cNvSpPr/>
          <p:nvPr/>
        </p:nvSpPr>
        <p:spPr>
          <a:xfrm flipH="1">
            <a:off x="2819160" y="2666880"/>
            <a:ext cx="9903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Straight Connector 19"/>
          <p:cNvSpPr/>
          <p:nvPr/>
        </p:nvSpPr>
        <p:spPr>
          <a:xfrm flipH="1">
            <a:off x="4800240" y="2590200"/>
            <a:ext cx="1523880" cy="22860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Straight Connector 22"/>
          <p:cNvSpPr/>
          <p:nvPr/>
        </p:nvSpPr>
        <p:spPr>
          <a:xfrm flipH="1">
            <a:off x="2819520" y="3657600"/>
            <a:ext cx="1295280" cy="5335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Straight Connector 25"/>
          <p:cNvSpPr/>
          <p:nvPr/>
        </p:nvSpPr>
        <p:spPr>
          <a:xfrm flipH="1">
            <a:off x="5181480" y="4267080"/>
            <a:ext cx="91440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Straight Connector 27"/>
          <p:cNvSpPr/>
          <p:nvPr/>
        </p:nvSpPr>
        <p:spPr>
          <a:xfrm flipH="1">
            <a:off x="2971800" y="5029200"/>
            <a:ext cx="990720" cy="7632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Straight Connector 29"/>
          <p:cNvSpPr/>
          <p:nvPr/>
        </p:nvSpPr>
        <p:spPr>
          <a:xfrm>
            <a:off x="4876920" y="5715000"/>
            <a:ext cx="121896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Straight Connector 32"/>
          <p:cNvSpPr/>
          <p:nvPr/>
        </p:nvSpPr>
        <p:spPr>
          <a:xfrm>
            <a:off x="5029200" y="914400"/>
            <a:ext cx="1219320" cy="0"/>
          </a:xfrm>
          <a:prstGeom prst="line">
            <a:avLst/>
          </a:prstGeom>
          <a:ln w="25560">
            <a:solidFill>
              <a:srgbClr val="0005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ight Brace 33"/>
          <p:cNvSpPr/>
          <p:nvPr/>
        </p:nvSpPr>
        <p:spPr>
          <a:xfrm>
            <a:off x="4952880" y="68580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800 h 457200"/>
              <a:gd name="textAreaBottom" fmla="*/ 4554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51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Box 34"/>
          <p:cNvSpPr/>
          <p:nvPr/>
        </p:nvSpPr>
        <p:spPr>
          <a:xfrm>
            <a:off x="2362320" y="457200"/>
            <a:ext cx="1143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Occul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Box 41"/>
          <p:cNvSpPr/>
          <p:nvPr/>
        </p:nvSpPr>
        <p:spPr>
          <a:xfrm>
            <a:off x="1905120" y="1066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Sternomastoid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Box 42"/>
          <p:cNvSpPr/>
          <p:nvPr/>
        </p:nvSpPr>
        <p:spPr>
          <a:xfrm>
            <a:off x="1905120" y="137160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Pectoralis Major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Box 43"/>
          <p:cNvSpPr/>
          <p:nvPr/>
        </p:nvSpPr>
        <p:spPr>
          <a:xfrm>
            <a:off x="1905120" y="198108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Bicep Brachi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Box 44"/>
          <p:cNvSpPr/>
          <p:nvPr/>
        </p:nvSpPr>
        <p:spPr>
          <a:xfrm>
            <a:off x="1905120" y="259092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xternal Oblique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Box 46"/>
          <p:cNvSpPr/>
          <p:nvPr/>
        </p:nvSpPr>
        <p:spPr>
          <a:xfrm>
            <a:off x="1981080" y="40384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Sartoriu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Box 48"/>
          <p:cNvSpPr/>
          <p:nvPr/>
        </p:nvSpPr>
        <p:spPr>
          <a:xfrm>
            <a:off x="2133720" y="4876920"/>
            <a:ext cx="10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Extensor Digitorum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Box 51"/>
          <p:cNvSpPr/>
          <p:nvPr/>
        </p:nvSpPr>
        <p:spPr>
          <a:xfrm>
            <a:off x="6172200" y="5562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Tibialis Anterior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Box 52"/>
          <p:cNvSpPr/>
          <p:nvPr/>
        </p:nvSpPr>
        <p:spPr>
          <a:xfrm>
            <a:off x="6095880" y="41148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Quadricep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Box 54"/>
          <p:cNvSpPr/>
          <p:nvPr/>
        </p:nvSpPr>
        <p:spPr>
          <a:xfrm>
            <a:off x="6324480" y="243828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Abdominal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Box 56"/>
          <p:cNvSpPr/>
          <p:nvPr/>
        </p:nvSpPr>
        <p:spPr>
          <a:xfrm>
            <a:off x="6324480" y="83808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514"/>
                </a:solidFill>
                <a:latin typeface="Arial"/>
              </a:rPr>
              <a:t>Facial Buccinator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uscle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mooth Muscle- Digestive organs, Makes up 7-8% of your musc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untary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6" descr="smooth"/>
          <p:cNvPicPr/>
          <p:nvPr/>
        </p:nvPicPr>
        <p:blipFill>
          <a:blip r:embed="rId1"/>
          <a:stretch/>
        </p:blipFill>
        <p:spPr>
          <a:xfrm>
            <a:off x="5791320" y="3124080"/>
            <a:ext cx="28573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uscles cont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rdiac Muscles- Only found in the hear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voluntar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kes up 3% of your muscl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y age 70 heart contracts 2.5 billion   times (assume resting heart beat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Muscles cont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keletal Muscles- Makes up 90% of your musc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oluntary- These are the muscles that you can move.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Types of Injur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train- Muscle “pull” or “strain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earing a muscle fiber(s), followed by bleeding or swelling of musc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uscle Cramp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longed contraction of muscle, ion imbalanc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Muscle Term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lexion- Movement that reduces a joint ang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tension-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movement that increases a joint ang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01:37:55Z</dcterms:created>
  <dc:creator>42</dc:creator>
  <dc:description/>
  <dc:language>en-US</dc:language>
  <cp:lastModifiedBy>rdavis</cp:lastModifiedBy>
  <dcterms:modified xsi:type="dcterms:W3CDTF">2009-09-11T11:30:18Z</dcterms:modified>
  <cp:revision>9</cp:revision>
  <dc:subject/>
  <dc:title>Muscular System </dc:title>
</cp:coreProperties>
</file>